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F79-A316-40D7-B298-E47D8F50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9C4D-9EC9-4A59-84E9-8CD2A638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2E73-D757-48E6-ACAA-B30ADB23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DD2-D407-45B3-9292-86EBF512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F36-74B3-4E28-A89E-F8343418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61EB-4958-432E-A8E9-F5DF5001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373-9ADB-406A-AFA6-716AEAD1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CEB5-113E-4E4F-AFA4-566DE2DD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AB8-FE6C-4A23-961A-637A1DFB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D8C-0200-403A-B09E-D4F3285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7FE-12E9-4FDB-98A9-5F3D3E55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DE4-5ACC-4EAF-B3B7-ED3AF0F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B482-8320-4E07-903F-62A5C13E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6EE9-07BC-4C2B-8BEB-416B7191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4993-6464-4FD3-85CF-B0A5032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4CD3-A0BE-45EF-8F2C-92C7217E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3D69-A7B7-45DF-A78D-1699311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0BE-3347-4C7A-A54C-ECB49F25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8D90-B609-44BB-95AC-F435AA66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8AC-C990-4AB3-AE2F-A0D0FA3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812-CA3C-4DE8-8DEA-77D024C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5A5-B2BD-4AC4-92BA-4A562BD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2008-5096-4CB0-8DDB-5B35BF3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A3D-5DD7-4664-B247-58BA79A8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B5CE-1BEF-4913-A5EE-F0EE9E21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225-3FAC-440F-935B-5EDBCD2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818-012B-4C3D-9888-AEE9EF8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E9F-C453-4DAD-BC52-4A11609D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CA8-A3FA-475F-BC1D-3CC45C8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007-0A91-4942-AFD2-3B4062A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5BF-D65A-4C7E-801F-B9C26CF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A88-2397-4176-B256-DBF49A7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B76-2CFA-43A5-BFFE-27CF517ED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3A31-D574-4A3E-B1D9-3CF2A83E1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4600" spc="-1" strike="noStrike" u="sng">
                <a:solidFill>
                  <a:srgbClr val="ffffff"/>
                </a:solidFill>
                <a:uFillTx/>
                <a:latin typeface="Verdana"/>
              </a:rPr>
              <a:t>fable</a:t>
            </a: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 is…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ructional tale about human emotions and human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Fab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usually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written as either poetry or prose (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y a clear moral or message, usually stated at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23091"/>
          <p:cNvPicPr/>
          <p:nvPr/>
        </p:nvPicPr>
        <p:blipFill>
          <a:blip r:embed="rId1"/>
          <a:stretch/>
        </p:blipFill>
        <p:spPr>
          <a:xfrm>
            <a:off x="4495680" y="1447920"/>
            <a:ext cx="391176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Fab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nimal charac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tand for human "typ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j0318942"/>
          <p:cNvPicPr/>
          <p:nvPr/>
        </p:nvPicPr>
        <p:blipFill>
          <a:blip r:embed="rId1"/>
          <a:stretch/>
        </p:blipFill>
        <p:spPr>
          <a:xfrm>
            <a:off x="6553080" y="3087720"/>
            <a:ext cx="1747800" cy="187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01883_"/>
          <p:cNvPicPr/>
          <p:nvPr/>
        </p:nvPicPr>
        <p:blipFill>
          <a:blip r:embed="rId2"/>
          <a:stretch/>
        </p:blipFill>
        <p:spPr>
          <a:xfrm>
            <a:off x="5562720" y="16765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17514"/>
          <p:cNvPicPr/>
          <p:nvPr/>
        </p:nvPicPr>
        <p:blipFill>
          <a:blip r:embed="rId3"/>
          <a:stretch/>
        </p:blipFill>
        <p:spPr>
          <a:xfrm>
            <a:off x="3581280" y="3581280"/>
            <a:ext cx="171144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4138"/>
          <p:cNvPicPr/>
          <p:nvPr/>
        </p:nvPicPr>
        <p:blipFill>
          <a:blip r:embed="rId4"/>
          <a:stretch/>
        </p:blipFill>
        <p:spPr>
          <a:xfrm>
            <a:off x="380880" y="3962520"/>
            <a:ext cx="1924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used to represent someone who is talented, but overconf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rt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used to represent someone who is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18942"/>
          <p:cNvPicPr/>
          <p:nvPr/>
        </p:nvPicPr>
        <p:blipFill>
          <a:blip r:embed="rId1"/>
          <a:stretch/>
        </p:blipFill>
        <p:spPr>
          <a:xfrm>
            <a:off x="1066680" y="1066680"/>
            <a:ext cx="2460600" cy="261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01883_"/>
          <p:cNvPicPr/>
          <p:nvPr/>
        </p:nvPicPr>
        <p:blipFill>
          <a:blip r:embed="rId2"/>
          <a:stretch/>
        </p:blipFill>
        <p:spPr>
          <a:xfrm>
            <a:off x="5486400" y="1600200"/>
            <a:ext cx="2276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More examp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use may repres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lion may repres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j0424138"/>
          <p:cNvPicPr/>
          <p:nvPr/>
        </p:nvPicPr>
        <p:blipFill>
          <a:blip r:embed="rId1"/>
          <a:stretch/>
        </p:blipFill>
        <p:spPr>
          <a:xfrm>
            <a:off x="1752480" y="2057400"/>
            <a:ext cx="1852560" cy="83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j0417514"/>
          <p:cNvPicPr/>
          <p:nvPr/>
        </p:nvPicPr>
        <p:blipFill>
          <a:blip r:embed="rId2"/>
          <a:stretch/>
        </p:blipFill>
        <p:spPr>
          <a:xfrm>
            <a:off x="1066680" y="3581280"/>
            <a:ext cx="3200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The fabl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one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olde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iterary forms - much, much older than the novel or the short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3631"/>
          <p:cNvPicPr/>
          <p:nvPr/>
        </p:nvPicPr>
        <p:blipFill>
          <a:blip r:embed="rId1"/>
          <a:stretch/>
        </p:blipFill>
        <p:spPr>
          <a:xfrm>
            <a:off x="3581280" y="3276720"/>
            <a:ext cx="25243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Animal Farm</a:t>
            </a: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 is a fable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Animal Farm Cover 1"/>
          <p:cNvPicPr/>
          <p:nvPr/>
        </p:nvPicPr>
        <p:blipFill>
          <a:blip r:embed="rId1"/>
          <a:stretch/>
        </p:blipFill>
        <p:spPr>
          <a:xfrm>
            <a:off x="609480" y="152388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imal Farm cover 2"/>
          <p:cNvPicPr/>
          <p:nvPr/>
        </p:nvPicPr>
        <p:blipFill>
          <a:blip r:embed="rId2"/>
          <a:stretch/>
        </p:blipFill>
        <p:spPr>
          <a:xfrm>
            <a:off x="4267080" y="1371600"/>
            <a:ext cx="195264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Animal Farm cover 3"/>
          <p:cNvPicPr/>
          <p:nvPr/>
        </p:nvPicPr>
        <p:blipFill>
          <a:blip r:embed="rId3"/>
          <a:stretch/>
        </p:blipFill>
        <p:spPr>
          <a:xfrm>
            <a:off x="2362320" y="2895480"/>
            <a:ext cx="2190600" cy="358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nimal Farm cover 4"/>
          <p:cNvPicPr/>
          <p:nvPr/>
        </p:nvPicPr>
        <p:blipFill>
          <a:blip r:embed="rId4"/>
          <a:stretch/>
        </p:blipFill>
        <p:spPr>
          <a:xfrm>
            <a:off x="586728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26:21Z</dcterms:created>
  <dc:creator>Emily</dc:creator>
  <dc:description/>
  <dc:language>en-US</dc:language>
  <cp:lastModifiedBy>Teacher</cp:lastModifiedBy>
  <dcterms:modified xsi:type="dcterms:W3CDTF">2012-01-04T14:07:48Z</dcterms:modified>
  <cp:revision>5</cp:revision>
  <dc:subject/>
  <dc:title>A fable is…</dc:title>
</cp:coreProperties>
</file>